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954838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533520" y="6308640"/>
            <a:ext cx="2895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Educational Research: Competencies for Analysis and Application, 9</a:t>
            </a:r>
            <a:r>
              <a:rPr b="0" i="1" lang="en-US" sz="1000" spc="-1" strike="noStrike" baseline="30000">
                <a:solidFill>
                  <a:srgbClr val="000000"/>
                </a:solidFill>
                <a:latin typeface="Tahoma"/>
                <a:ea typeface="ＭＳ Ｐゴシック"/>
              </a:rPr>
              <a:t>th</a:t>
            </a:r>
            <a:r>
              <a:rPr b="0" i="1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edi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Gay, Mills, &amp; Airasi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638680" y="6384960"/>
            <a:ext cx="221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© 2009 Pearson Education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3434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0322A-7FA3-41CF-BDE7-CCAA617310FC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352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861320" y="6362640"/>
            <a:ext cx="1130400" cy="41904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762120" y="571680"/>
            <a:ext cx="8153280" cy="571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wmf"/><Relationship Id="rId1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wmf"/><Relationship Id="rId1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wmf"/><Relationship Id="rId1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wmf"/><Relationship Id="rId1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wmf"/><Relationship Id="rId1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Chapter 12: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 Descriptive Statistic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6666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the process of tabulating and coding dat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frequency and central tendency, and differentiate among mean, median, and mod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variability, and differentiate among the range, quartile deviation, variance, and standard devi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Measures of Central Tendenc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89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sures of central tendency are indices that represent a typical score among a group of scor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sures of central tendency provide a way to describe a dataset with a single numb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Measures of Central Tendenc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89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three most common measures of central tendency are th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ea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edia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od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: Appropriate for describing interval or rati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n: Appropriate for describing ordin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: Appropriate for describing nomin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Measures of Central Tendenc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ean is the most commonly used measure of central tendency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formula for the mean i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 ∑X/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o calculate the mean, all the scores are summed and then divided by the number of student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0" y="0"/>
          <a:ext cx="200160" cy="16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00160" cy="1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0" y="0"/>
          <a:ext cx="200160" cy="16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200160" cy="1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0" y="0"/>
          <a:ext cx="200160" cy="162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0"/>
                    <a:ext cx="200160" cy="1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0" y="0"/>
          <a:ext cx="123840" cy="142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0"/>
                    <a:ext cx="123840" cy="1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0" y="0"/>
          <a:ext cx="200160" cy="162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0"/>
                    <a:ext cx="200160" cy="1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182880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Measures of Central Tendenc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edian is the midpoint in a distribution: 50% of the scores are above the median and 50% of the scores are below the media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determine the median, all scores are listed in order of valu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he total number of scores is odd, the median is the middle scor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0" y="0"/>
          <a:ext cx="200160" cy="16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00160" cy="1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0" y="0"/>
          <a:ext cx="200160" cy="16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200160" cy="1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0" y="0"/>
          <a:ext cx="200160" cy="162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0"/>
                    <a:ext cx="200160" cy="1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0" y="0"/>
          <a:ext cx="123840" cy="142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0"/>
                    <a:ext cx="123840" cy="1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0" y="0"/>
          <a:ext cx="200160" cy="162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0"/>
                    <a:ext cx="200160" cy="1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Measures of Central Tendenc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he total number of scores is even, the median is halfway between the two middle scor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n values are useful when there is large variance in a distribu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0" y="0"/>
          <a:ext cx="200160" cy="16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00160" cy="1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0" y="0"/>
          <a:ext cx="200160" cy="16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200160" cy="1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0" y="0"/>
          <a:ext cx="200160" cy="162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0"/>
                    <a:ext cx="200160" cy="1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0" y="0"/>
          <a:ext cx="123840" cy="142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0"/>
                    <a:ext cx="123840" cy="1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0" y="0"/>
          <a:ext cx="200160" cy="162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0"/>
                    <a:ext cx="200160" cy="1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Measures of Central Tendenc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de is the most frequently occurring score in a distribu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de is established by looking at a set of scores or at a graph of scores and determining which score occurs most frequentl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de is of limited valu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distributions have more than one mode (e.g., bi-modal, or multi-modal distribution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0" y="0"/>
          <a:ext cx="200160" cy="16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00160" cy="1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0" y="0"/>
          <a:ext cx="200160" cy="16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200160" cy="1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0" y="0"/>
          <a:ext cx="200160" cy="162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0"/>
                    <a:ext cx="200160" cy="1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0" y="0"/>
          <a:ext cx="123840" cy="142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0"/>
                    <a:ext cx="123840" cy="1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0" y="0"/>
          <a:ext cx="200160" cy="162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0"/>
                    <a:ext cx="200160" cy="1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Measures of Central Tendenc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ding among measures of central tend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the mean is most preferr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mean takes all scores into accou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mean, however, is greatly influenced by extreme scor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there are extreme scores present in a distribution, the median is a better measure of central tendenc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0" y="0"/>
          <a:ext cx="200160" cy="16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00160" cy="1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0" y="0"/>
          <a:ext cx="200160" cy="16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200160" cy="1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0" y="0"/>
          <a:ext cx="200160" cy="162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0"/>
                    <a:ext cx="200160" cy="1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0" y="0"/>
          <a:ext cx="123840" cy="142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0"/>
                    <a:ext cx="123840" cy="1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0" y="0"/>
          <a:ext cx="200160" cy="162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0"/>
                    <a:ext cx="200160" cy="1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Measures of Variabilit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658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sures of variability provide an index of the degree of spread in a distribution of scor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sures of variability are critical to examine and report because some distributions may be very different but yet still have the same mean or media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Measures of Variabilit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658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common measures of variability are th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ng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quartile devi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tandard devi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: The difference between the highest and lowest scor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ange is not a stable measur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ange is quickly determin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Measures of Variabilit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658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rtile Deviation:  One half the difference between the upper quartile and the lower quartile in a distribu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subtracting the cutoff point for the lower quartile from the cutoff point for the upper quartile and then dividing by two we obtain a measure of variabilit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mall number indicates little variability and illustrates that the scores are close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Chapter 12: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 Descriptive Statistic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04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the major characteristics of normal and skewed distribut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nd differentiate among measures of relative position, including percentile ranks and standard scor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nd differentiate among two measures of relationship, the Pearso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the Spearman rh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Measures of Variabilit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658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nce: The amount of spread among scores.  If the variance is small the scores are close together.  If the variance is large the scores are spread ou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culation of the variance shows how far each score is from the mea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formula for the variance i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∑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X–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/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124080" y="5638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Measures of Variabilit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658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deviation:  The score root of the varian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tandard deviation is used with interval and ratio da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tandard deviation is the most commonly used measure of variabilit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Measures of Variabilit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658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he mean and the standard deviation are known, the distribution can be described fairly wel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presents the standard deviation of a sample and the symbol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i.e., the Greek lower case sigma) represents the standard deviation of the popul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he Normal Curv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81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variable is normally distributed then several things are true about the distribution of the variab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y percent of the scores are above the mean and 50% are below the mea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mean, median, and mode have the same val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scores are near the mean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he Normal Curv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81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4.13% of the scores fall between the mean and one standard deviation above the mean and 34.13% of scores fall below the mean and one standard deviation below the mea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t is, 68.26% of the scores fall within one standard deviation of the mea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99% of the scores fall within three standard deviations above and below the mea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he Normal Curv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50560" y="1828800"/>
            <a:ext cx="669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kewed distribu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 distribution is not normally distributed, it is said to be skewe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kewed distribution is not symmetric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mean, median, and mode are not the same val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farther apart the mean and the median, the more skewed the distribu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he Normal Curv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50560" y="1828800"/>
            <a:ext cx="669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kewed distribu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gatively skewed distribution has extreme scores at the lower end of the distribu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&lt;Median&lt;M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ositively skewed distribution has extreme scores at the higher end of the distribu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&gt;Median&gt;M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Measures of Relative Posi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90360" y="2057400"/>
            <a:ext cx="689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sures of relative position indicate where a score falls in the distribution relative to all the other score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sures of relative position indicate how well an individual has scored in comparison to others in the distribu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sures of relative position express different scores on a common sca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Measures of Relative Posi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89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two most frequently used measures of relative position ar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ercentile rank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tandard scor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centile ranks indicate the percentage of scores that fall at or below a given scor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centile ranks are appropriate for ordinal data and are also used for interval da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ercentile rank of 50 indicates the median score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Measures of Relative Posi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89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tandard score uses standard deviation units to express how far an individual student’s test score is from the mea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, a standard score reports how many standard deviations a given score is from the mean of a distribu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scores allow scores from different tests to be compared on a common scale and therefore allow for calculations on those dat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escriptive Statistic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Statistic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a set of procedures for describing, synthesizing, analyzing, and interpreting quantitative dat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mean is an example of a statisti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can calculate statistics by hand or can use the assistance of statistical program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el, SPSS, and many other programs exist.  Some programs are also available on the Web to analyze datase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Measures of Relative Posi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89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z-score is the most basic and most often used standard scor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z-score is directly tied to the standard deviation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core that represents the mean has a z-score of 0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core at 1 standard deviation above the mean has a z-score of 1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Measures of Relative Posi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6666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vert a raw score to a z-score we use the following formula wher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the raw scor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Z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X-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haracteristics of the normal distribution can be used to approximate where a score falls based upon a standard score.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"/>
          <p:cNvSpPr/>
          <p:nvPr/>
        </p:nvSpPr>
        <p:spPr>
          <a:xfrm>
            <a:off x="3429000" y="3276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Measures of Relative Posi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6666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-score is a standard score sometimes used instead of a z-scor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-score is calculated by multiplying a z-score by 10 and adding 50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-scores transform the scores such that there are not negative values.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Measures of Relationship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742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sures of relationship indicate the degree to which two sets of scores are relate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are several statistical measures of relationship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nature of a given dataset dictates which measure is us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Measures of Relationship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742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rso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statistic used to calculate relationship for interval or ratio data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rso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to account every scor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rso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the most stable measure of relationshi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rman rho is used to calculate relationship with ordinal dat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are other tests of relationship for ordinal data (e.g., Gamma, Kendall’s tau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rman rho is most popul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escriptive Statistic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6970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aphing Data is a critical step in analyzing any datase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ariables should be graph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ing helps researchers to know their da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packages make graphing data an easy tas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ing helps to identify any errors in a datase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Preparing Data for Analysi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658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data are collected, the first step toward analysis involves converting behavioral responses into a numerical system or categorical organiz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critical that all data are scored accurately and consistentl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coring should be double-checked for consistency and accuracy (i.e., at least 25% of all cases should be checked)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Preparing Data for Analysi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658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-ended items should be scored by two scorers to check reliabilit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data scoring and coding procedures should be documented and reported in the written repor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Preparing Data for Analysi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69706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instruments are scored, the resulting data are tabulated and entered into a spreadshee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bulation involves organizing the data systematically (e.g., by participant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066680" y="4038480"/>
          <a:ext cx="7391520" cy="1981440"/>
        </p:xfrm>
        <a:graphic>
          <a:graphicData uri="http://schemas.openxmlformats.org/drawingml/2006/table">
            <a:tbl>
              <a:tblPr/>
              <a:tblGrid>
                <a:gridCol w="1087560"/>
                <a:gridCol w="1198440"/>
                <a:gridCol w="1447920"/>
                <a:gridCol w="1411200"/>
                <a:gridCol w="1014480"/>
                <a:gridCol w="123192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end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ra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Preparing Data for Analysi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6970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 this potential dataset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 represents participant number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. is the experimental condition (1 or 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der is represented by female=1; male=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hievement (Ach) and motivation (Mot) were also variables asse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066680" y="4038480"/>
          <a:ext cx="7391520" cy="1981440"/>
        </p:xfrm>
        <a:graphic>
          <a:graphicData uri="http://schemas.openxmlformats.org/drawingml/2006/table">
            <a:tbl>
              <a:tblPr/>
              <a:tblGrid>
                <a:gridCol w="1087560"/>
                <a:gridCol w="1198440"/>
                <a:gridCol w="1447920"/>
                <a:gridCol w="1411200"/>
                <a:gridCol w="1014480"/>
                <a:gridCol w="123192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end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ra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ypes of Descriptive Statistic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89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data are tabulated and entered, the next step is to conduct descriptive statistics to summarize data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ome studies, only descriptive statistics will be conduct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he indices are calculated for a sample, they are referred to as statistic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indices are calculated for the entire population, they are referred to as parameter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ypes of Descriptive Statistic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742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frequency refers to the number of times something occu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ies are often used to describe categorical dat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might want to have frequency counts of how many males and females were in a study or how many participants were in each condition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 counts are not as helpful in describing interval and ratio data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ristina Robb</cp:lastModifiedBy>
  <dcterms:modified xsi:type="dcterms:W3CDTF">2008-05-20T21:28:06Z</dcterms:modified>
  <cp:revision>104</cp:revision>
  <dc:subject/>
  <dc:title>AutoCAD Architecture 2008: Part I: Getting Started</dc:title>
</cp:coreProperties>
</file>